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DE9-D14D-49C7-B29F-FAAF9CFA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C5A-B864-4A4A-90A1-6AB4B09C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BEE-3774-491B-8E68-B90B8A16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C72-4C96-4DFA-A038-C7B1D376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B3C-3E92-416C-9D4F-CD49FF7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FC6-8180-47EC-8E67-2B588AB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C81-57BB-4D12-A6A4-31531DB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124-309F-4ECD-8DE0-4821919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F5E-22FD-4EE9-A945-74227CE2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98C-FAC4-41EF-BC0B-52800F1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7C7-C7C3-4BA6-98A6-EB5B901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102-2BDE-4555-B5C2-2304B11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E98F-A15C-438B-A9C2-FCC324807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owerpoint 97 Embedded OLE Object Cleaner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812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ad the Whatsnewt.txt file before running this utility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ease run this presenation and click inside of this text box to start. Alternatively, you can chose TOOLS | MAROS | MACRO... and run the Start macro.  To stop the application press Crtl+Br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7:12:48Z</dcterms:created>
  <dc:creator>AVERT, a Division of NAI Labs</dc:creator>
  <dc:description>Powerpoint 97 Embedded OLE Object Cleaner 1.2
(C) 1999 Network Associates, Inc.
AVERT, a Division of NAI Labs
Feedback? mailto:virus_research_de@nai.com</dc:description>
  <dc:language>en-US</dc:language>
  <cp:lastModifiedBy>NAI</cp:lastModifiedBy>
  <dcterms:modified xsi:type="dcterms:W3CDTF">1999-09-10T13:20:29Z</dcterms:modified>
  <cp:revision>339</cp:revision>
  <dc:subject/>
  <dc:title>Powerpoint 97 Embedded OLE Object Cleaner 1.2</dc:title>
</cp:coreProperties>
</file>